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250920" y="907920"/>
            <a:ext cx="649080" cy="6494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11240" y="6424560"/>
            <a:ext cx="552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OHIM-ITFMD-ITA – WIPO/SDWG - XML Task Forces’Informal Meeting, October 22 to 24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57360" y="6424560"/>
            <a:ext cx="131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F277717-80FA-4A59-8A2A-87C9663BF584}" type="slidenum">
              <a:rPr b="0" lang="en-I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 of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a3e"/>
                </a:solidFill>
                <a:latin typeface="Stone Sans ITC TT-Semi"/>
              </a:rPr>
              <a:t>Click to edit the title text format</a:t>
            </a: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05264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48104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91772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234936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2349360" indent="-457200">
              <a:spcBef>
                <a:spcPts val="7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2349360" indent="-457200">
              <a:spcBef>
                <a:spcPts val="7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m-xml.org/DS-XML/DS-XML_xml/index.x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4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9280" y="1768320"/>
            <a:ext cx="5905440" cy="17290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1341360"/>
            <a:ext cx="5905440" cy="398880"/>
          </a:xfrm>
          <a:prstGeom prst="rect">
            <a:avLst/>
          </a:prstGeom>
          <a:solidFill>
            <a:srgbClr val="000099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WIPO/SDWG - XML Task Forces’ Informal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3137040"/>
            <a:ext cx="5845320" cy="38196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3300"/>
                </a:solidFill>
                <a:latin typeface="Times New Roman"/>
                <a:ea typeface="Lucida Sans Unicode"/>
              </a:rPr>
              <a:t>WIPO-Geneva, 22</a:t>
            </a:r>
            <a:r>
              <a:rPr b="0" lang="en-IE" sz="1600" spc="-1" strike="noStrike" baseline="30000">
                <a:solidFill>
                  <a:srgbClr val="003300"/>
                </a:solidFill>
                <a:latin typeface="Times New Roman"/>
                <a:ea typeface="Lucida Sans Unicode"/>
              </a:rPr>
              <a:t>th</a:t>
            </a:r>
            <a:r>
              <a:rPr b="0" lang="en-IE" sz="1600" spc="-1" strike="noStrike">
                <a:solidFill>
                  <a:srgbClr val="003300"/>
                </a:solidFill>
                <a:latin typeface="Times New Roman"/>
                <a:ea typeface="Lucida Sans Unicode"/>
              </a:rPr>
              <a:t> Octobe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2055960"/>
            <a:ext cx="5844960" cy="93492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00"/>
                </a:solidFill>
                <a:latin typeface="Times New Roman"/>
                <a:ea typeface="Lucida Sans Unicode"/>
              </a:rPr>
              <a:t>ST.86 Draft – XML Dictionary, Model Schema &amp; Class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6200" y="5373720"/>
            <a:ext cx="273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 u="sng">
                <a:solidFill>
                  <a:srgbClr val="660066"/>
                </a:solidFill>
                <a:uFillTx/>
                <a:latin typeface="Times New Roman"/>
              </a:rPr>
              <a:t>Alexandre.Tran@oami.europa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660066"/>
                </a:solidFill>
                <a:latin typeface="Times New Roman"/>
              </a:rPr>
              <a:t>Head of IT Archite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660066"/>
                </a:solidFill>
                <a:latin typeface="Times New Roman"/>
              </a:rPr>
              <a:t>&amp; Standards Se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1773360"/>
            <a:ext cx="8496000" cy="4105080"/>
          </a:xfrm>
          <a:prstGeom prst="rect">
            <a:avLst/>
          </a:prstGeom>
          <a:solidFill>
            <a:srgbClr val="ffc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68720" y="915840"/>
            <a:ext cx="49658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70400" y="2709720"/>
            <a:ext cx="5205240" cy="681120"/>
          </a:xfrm>
          <a:prstGeom prst="rect">
            <a:avLst/>
          </a:prstGeom>
          <a:solidFill>
            <a:srgbClr val="c2ecff"/>
          </a:solidFill>
          <a:ln w="9360">
            <a:solidFill>
              <a:srgbClr val="ffffff"/>
            </a:solidFill>
            <a:miter/>
          </a:ln>
          <a:effectLst>
            <a:outerShdw dist="101727" dir="23898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30560" y="2705040"/>
            <a:ext cx="685800" cy="685800"/>
          </a:xfrm>
          <a:prstGeom prst="diamond">
            <a:avLst/>
          </a:prstGeom>
          <a:solidFill>
            <a:srgbClr val="372d9f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54520" y="2879640"/>
            <a:ext cx="4819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e0017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be0017"/>
                </a:solidFill>
                <a:latin typeface="Arial"/>
                <a:ea typeface="Arial"/>
              </a:rPr>
              <a:t>ST.86 Draft: Re-use of ST.66 Compon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60600" y="2803680"/>
            <a:ext cx="19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3713040"/>
            <a:ext cx="5203800" cy="685800"/>
          </a:xfrm>
          <a:prstGeom prst="rect">
            <a:avLst/>
          </a:prstGeom>
          <a:solidFill>
            <a:srgbClr val="c2ecff"/>
          </a:solidFill>
          <a:ln w="9360">
            <a:solidFill>
              <a:srgbClr val="ffffff"/>
            </a:solidFill>
            <a:miter/>
          </a:ln>
          <a:effectLst>
            <a:outerShdw dist="101727" dir="23898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30560" y="3713040"/>
            <a:ext cx="685800" cy="685800"/>
          </a:xfrm>
          <a:prstGeom prst="diamond">
            <a:avLst/>
          </a:prstGeom>
          <a:solidFill>
            <a:srgbClr val="372d9f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54520" y="3887640"/>
            <a:ext cx="41781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be0017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be0017"/>
                </a:solidFill>
                <a:latin typeface="Arial"/>
                <a:ea typeface="Arial"/>
              </a:rPr>
              <a:t>ST.86 Draft Dictionary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60600" y="3811680"/>
            <a:ext cx="19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70400" y="4759200"/>
            <a:ext cx="5203800" cy="648000"/>
          </a:xfrm>
          <a:prstGeom prst="rect">
            <a:avLst/>
          </a:prstGeom>
          <a:solidFill>
            <a:srgbClr val="c2ecff"/>
          </a:solidFill>
          <a:ln w="9360">
            <a:solidFill>
              <a:srgbClr val="ffffff"/>
            </a:solidFill>
            <a:miter/>
          </a:ln>
          <a:effectLst>
            <a:outerShdw dist="101727" dir="23898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0560" y="4759200"/>
            <a:ext cx="685800" cy="685800"/>
          </a:xfrm>
          <a:prstGeom prst="diamond">
            <a:avLst/>
          </a:prstGeom>
          <a:solidFill>
            <a:srgbClr val="372d9f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90800" y="4933800"/>
            <a:ext cx="4229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e0017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be0017"/>
                </a:solidFill>
                <a:latin typeface="Arial"/>
                <a:ea typeface="Arial"/>
              </a:rPr>
              <a:t>Q &amp;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60600" y="4857840"/>
            <a:ext cx="19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628640"/>
            <a:ext cx="8501040" cy="505080"/>
          </a:xfrm>
          <a:prstGeom prst="rect">
            <a:avLst/>
          </a:prstGeom>
          <a:solidFill>
            <a:srgbClr val="e2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877000"/>
            <a:ext cx="8501040" cy="574560"/>
          </a:xfrm>
          <a:prstGeom prst="rect">
            <a:avLst/>
          </a:prstGeom>
          <a:solidFill>
            <a:srgbClr val="e2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5440" y="1739880"/>
            <a:ext cx="8420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T.86 Draft – XML Dictionary, Model Schema &amp; Class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91640" y="6116760"/>
            <a:ext cx="252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Geneva, 22</a:t>
            </a:r>
            <a:r>
              <a:rPr b="0" lang="en-US" sz="16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Octobe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47640" y="907920"/>
            <a:ext cx="7272360" cy="5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92360" y="932040"/>
            <a:ext cx="6946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25600" y="2581200"/>
            <a:ext cx="2390760" cy="2935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47640" y="907920"/>
            <a:ext cx="7272360" cy="5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76360" y="932040"/>
            <a:ext cx="7162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.86: Re-use of ST.66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9040" y="2494080"/>
            <a:ext cx="3721320" cy="3671640"/>
          </a:xfrm>
          <a:prstGeom prst="rect">
            <a:avLst/>
          </a:prstGeom>
          <a:solidFill>
            <a:srgbClr val="cc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2276640"/>
            <a:ext cx="3743280" cy="317160"/>
          </a:xfrm>
          <a:prstGeom prst="roundRect">
            <a:avLst>
              <a:gd name="adj" fmla="val 3569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75600" anchor="ctr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IE" sz="1400" spc="-1" strike="noStrike">
                <a:solidFill>
                  <a:srgbClr val="ffffff"/>
                </a:solidFill>
                <a:latin typeface="Comic Sans MS"/>
              </a:rPr>
              <a:t>WIPO ST.66 Version 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2523960"/>
            <a:ext cx="3743280" cy="5050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256536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66"/>
                </a:solidFill>
                <a:latin typeface="Comic Sans MS"/>
              </a:rPr>
              <a:t>WIPO ST.66 Main Pa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997360"/>
            <a:ext cx="3743280" cy="504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3068640"/>
            <a:ext cx="35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66"/>
                </a:solidFill>
                <a:latin typeface="Comic Sans MS"/>
              </a:rPr>
              <a:t>Appendix A – ST.66 Data Diction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3500280"/>
            <a:ext cx="3743280" cy="5050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3573360"/>
            <a:ext cx="35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66"/>
                </a:solidFill>
                <a:latin typeface="Comic Sans MS"/>
              </a:rPr>
              <a:t>Appendix B – XML Sche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4005360"/>
            <a:ext cx="3743280" cy="504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4076640"/>
            <a:ext cx="35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66"/>
                </a:solidFill>
                <a:latin typeface="Comic Sans MS"/>
              </a:rPr>
              <a:t>Appendix C – Class Diagra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5440" y="5013360"/>
            <a:ext cx="3741840" cy="504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5084640"/>
            <a:ext cx="352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66"/>
                </a:solidFill>
                <a:latin typeface="Comic Sans MS"/>
              </a:rPr>
              <a:t>Appendix E – ST.36 Compatibility For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5440" y="1557000"/>
            <a:ext cx="35989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99"/>
                </a:solidFill>
                <a:latin typeface="Arial"/>
              </a:rPr>
              <a:t>WIPO Standard ST.66</a:t>
            </a:r>
            <a:br>
              <a:rPr sz="1700"/>
            </a:br>
            <a:r>
              <a:rPr b="0" lang="en-GB" sz="1100" spc="-1" strike="noStrike">
                <a:solidFill>
                  <a:srgbClr val="000000"/>
                </a:solidFill>
                <a:latin typeface="Stone Sans ITC TT-Semi"/>
              </a:rPr>
              <a:t>Recommendation for the Processing of 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Stone Sans ITC TT-Semi"/>
              </a:rPr>
              <a:t>Trademark Information Using X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4508640"/>
            <a:ext cx="3743280" cy="504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4581360"/>
            <a:ext cx="38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66"/>
                </a:solidFill>
                <a:latin typeface="Comic Sans MS"/>
              </a:rPr>
              <a:t>Appendix D – </a:t>
            </a:r>
            <a:r>
              <a:rPr b="0" lang="en-IE" sz="1200" spc="-1" strike="noStrike">
                <a:solidFill>
                  <a:srgbClr val="000066"/>
                </a:solidFill>
                <a:latin typeface="Comic Sans MS"/>
              </a:rPr>
              <a:t>List of Acronyms &amp; Abbreviations</a:t>
            </a:r>
            <a:r>
              <a:rPr b="0" lang="en-IE" sz="1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24000" y="5587920"/>
            <a:ext cx="3816360" cy="505080"/>
            <a:chOff x="324000" y="5587920"/>
            <a:chExt cx="3816360" cy="505080"/>
          </a:xfrm>
        </p:grpSpPr>
        <p:sp>
          <p:nvSpPr>
            <p:cNvPr id="86" name=""/>
            <p:cNvSpPr/>
            <p:nvPr/>
          </p:nvSpPr>
          <p:spPr>
            <a:xfrm>
              <a:off x="324000" y="5587920"/>
              <a:ext cx="3741480" cy="5050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4000" y="5645160"/>
              <a:ext cx="381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66"/>
                  </a:solidFill>
                  <a:latin typeface="Comic Sans MS"/>
                </a:rPr>
                <a:t>Guideline for Implementation of Schem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5100480" y="2494080"/>
            <a:ext cx="3721320" cy="3671640"/>
          </a:xfrm>
          <a:prstGeom prst="rect">
            <a:avLst/>
          </a:prstGeom>
          <a:solidFill>
            <a:srgbClr val="3333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05440" y="2276640"/>
            <a:ext cx="3743280" cy="317160"/>
          </a:xfrm>
          <a:prstGeom prst="roundRect">
            <a:avLst>
              <a:gd name="adj" fmla="val 3569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75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ff"/>
                </a:solidFill>
                <a:latin typeface="Comic Sans MS"/>
              </a:rPr>
              <a:t>WIPO ST.86 Dr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05440" y="2523960"/>
            <a:ext cx="3743280" cy="5050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05440" y="256536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66"/>
                </a:solidFill>
                <a:latin typeface="Comic Sans MS"/>
              </a:rPr>
              <a:t>WIPO ST.66 Main Pa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06880" y="5013360"/>
            <a:ext cx="3741840" cy="5047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05440" y="5084640"/>
            <a:ext cx="352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66"/>
                </a:solidFill>
                <a:latin typeface="Comic Sans MS"/>
              </a:rPr>
              <a:t>Appendix E – ST.36 Compatibility For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06880" y="1557000"/>
            <a:ext cx="35989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99"/>
                </a:solidFill>
                <a:latin typeface="Arial"/>
              </a:rPr>
              <a:t>WIPO Standard ST.86 Draft</a:t>
            </a:r>
            <a:br>
              <a:rPr sz="1700"/>
            </a:br>
            <a:r>
              <a:rPr b="0" lang="en-GB" sz="1100" spc="-1" strike="noStrike">
                <a:solidFill>
                  <a:srgbClr val="000000"/>
                </a:solidFill>
                <a:latin typeface="Stone Sans ITC TT-Semi"/>
              </a:rPr>
              <a:t>Recommendation for the Processing of 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Stone Sans ITC TT-Semi"/>
              </a:rPr>
              <a:t>Industrial Design Information Using X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05440" y="4508640"/>
            <a:ext cx="3743280" cy="5047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05440" y="5587920"/>
            <a:ext cx="3741840" cy="5050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05440" y="4581360"/>
            <a:ext cx="38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66"/>
                </a:solidFill>
                <a:latin typeface="Comic Sans MS"/>
              </a:rPr>
              <a:t>Appendix D – </a:t>
            </a:r>
            <a:r>
              <a:rPr b="0" lang="en-IE" sz="1200" spc="-1" strike="noStrike">
                <a:solidFill>
                  <a:srgbClr val="000066"/>
                </a:solidFill>
                <a:latin typeface="Comic Sans MS"/>
              </a:rPr>
              <a:t>List of Acronyms &amp; Abbreviations</a:t>
            </a:r>
            <a:r>
              <a:rPr b="0" lang="en-IE" sz="1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05440" y="564516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66"/>
                </a:solidFill>
                <a:latin typeface="Comic Sans MS"/>
              </a:rPr>
              <a:t>Guideline for Implementation of Sche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11640" y="2781360"/>
            <a:ext cx="647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211640" y="4724280"/>
            <a:ext cx="647640" cy="1081080"/>
            <a:chOff x="4211640" y="4724280"/>
            <a:chExt cx="647640" cy="1081080"/>
          </a:xfrm>
        </p:grpSpPr>
        <p:sp>
          <p:nvSpPr>
            <p:cNvPr id="101" name=""/>
            <p:cNvSpPr/>
            <p:nvPr/>
          </p:nvSpPr>
          <p:spPr>
            <a:xfrm>
              <a:off x="4211640" y="4724280"/>
              <a:ext cx="64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11640" y="5229360"/>
              <a:ext cx="64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211640" y="5805360"/>
              <a:ext cx="64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211640" y="2997360"/>
            <a:ext cx="4537080" cy="1512720"/>
            <a:chOff x="4211640" y="2997360"/>
            <a:chExt cx="4537080" cy="1512720"/>
          </a:xfrm>
        </p:grpSpPr>
        <p:sp>
          <p:nvSpPr>
            <p:cNvPr id="105" name=""/>
            <p:cNvSpPr/>
            <p:nvPr/>
          </p:nvSpPr>
          <p:spPr>
            <a:xfrm>
              <a:off x="5005440" y="2997360"/>
              <a:ext cx="3743280" cy="504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05440" y="3068640"/>
              <a:ext cx="352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66"/>
                  </a:solidFill>
                  <a:latin typeface="Comic Sans MS"/>
                </a:rPr>
                <a:t>Appendix A – ST.86 Data Dictionar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05440" y="3500280"/>
              <a:ext cx="3743280" cy="5050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05440" y="3573360"/>
              <a:ext cx="352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66"/>
                  </a:solidFill>
                  <a:latin typeface="Comic Sans MS"/>
                </a:rPr>
                <a:t>Appendix B – ST.86 XML Schem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005440" y="4005360"/>
              <a:ext cx="3743280" cy="504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05440" y="4076640"/>
              <a:ext cx="352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66"/>
                  </a:solidFill>
                  <a:latin typeface="Comic Sans MS"/>
                </a:rPr>
                <a:t>Appendix C – ST.86 Class Diagram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11640" y="3213000"/>
              <a:ext cx="647640" cy="0"/>
            </a:xfrm>
            <a:prstGeom prst="line">
              <a:avLst/>
            </a:prstGeom>
            <a:ln w="57240">
              <a:solidFill>
                <a:srgbClr val="008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11640" y="3716280"/>
              <a:ext cx="647640" cy="0"/>
            </a:xfrm>
            <a:prstGeom prst="line">
              <a:avLst/>
            </a:prstGeom>
            <a:ln w="57240">
              <a:solidFill>
                <a:srgbClr val="008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11640" y="4221000"/>
              <a:ext cx="647640" cy="0"/>
            </a:xfrm>
            <a:prstGeom prst="line">
              <a:avLst/>
            </a:prstGeom>
            <a:ln w="57240">
              <a:solidFill>
                <a:srgbClr val="008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2771640" y="2276640"/>
            <a:ext cx="1152720" cy="317160"/>
          </a:xfrm>
          <a:prstGeom prst="roundRect">
            <a:avLst>
              <a:gd name="adj" fmla="val 356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75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ff"/>
                </a:solidFill>
                <a:latin typeface="Comic Sans MS"/>
              </a:rPr>
              <a:t>+ Revi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47640" y="907920"/>
            <a:ext cx="7272360" cy="5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92360" y="932040"/>
            <a:ext cx="6946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.86 Draft Dictionary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00360" y="1989000"/>
            <a:ext cx="1676520" cy="516240"/>
          </a:xfrm>
          <a:prstGeom prst="rect">
            <a:avLst/>
          </a:prstGeom>
          <a:solidFill>
            <a:srgbClr val="003300"/>
          </a:solidFill>
          <a:ln w="1908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20113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66"/>
                </a:solidFill>
                <a:latin typeface="Comic Sans MS"/>
              </a:rPr>
              <a:t>ST.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00360" y="2560680"/>
            <a:ext cx="1676520" cy="650880"/>
          </a:xfrm>
          <a:prstGeom prst="rect">
            <a:avLst/>
          </a:prstGeom>
          <a:solidFill>
            <a:srgbClr val="ccecff"/>
          </a:solidFill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00360" y="26179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66"/>
                </a:solidFill>
                <a:latin typeface="Comic Sans MS"/>
              </a:rPr>
              <a:t>1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00360" y="3209760"/>
            <a:ext cx="1676520" cy="65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00360" y="3267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66"/>
                </a:solidFill>
                <a:latin typeface="Comic Sans MS"/>
              </a:rPr>
              <a:t>7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00360" y="3857760"/>
            <a:ext cx="1676520" cy="650880"/>
          </a:xfrm>
          <a:prstGeom prst="rect">
            <a:avLst/>
          </a:prstGeom>
          <a:solidFill>
            <a:srgbClr val="ccecff"/>
          </a:solidFill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00360" y="3914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66"/>
                </a:solidFill>
                <a:latin typeface="Comic Sans MS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4505400"/>
            <a:ext cx="1676520" cy="65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00360" y="4562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66"/>
                </a:solidFill>
                <a:latin typeface="Comic Sans MS"/>
              </a:rPr>
              <a:t>3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3680" y="2560680"/>
            <a:ext cx="2475000" cy="649080"/>
          </a:xfrm>
          <a:prstGeom prst="rect">
            <a:avLst/>
          </a:prstGeom>
          <a:solidFill>
            <a:srgbClr val="003300"/>
          </a:solidFill>
          <a:ln w="1908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1840" y="2617920"/>
            <a:ext cx="23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66"/>
                </a:solidFill>
                <a:latin typeface="Comic Sans MS"/>
              </a:rPr>
              <a:t>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2240" y="3208320"/>
            <a:ext cx="2474640" cy="649440"/>
          </a:xfrm>
          <a:prstGeom prst="rect">
            <a:avLst/>
          </a:prstGeom>
          <a:solidFill>
            <a:srgbClr val="003300"/>
          </a:solidFill>
          <a:ln w="1908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0040" y="3265560"/>
            <a:ext cx="23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66"/>
                </a:solidFill>
                <a:latin typeface="Comic Sans MS"/>
              </a:rPr>
              <a:t>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3855960"/>
            <a:ext cx="2475000" cy="649440"/>
          </a:xfrm>
          <a:prstGeom prst="rect">
            <a:avLst/>
          </a:prstGeom>
          <a:solidFill>
            <a:srgbClr val="003300"/>
          </a:solidFill>
          <a:ln w="1908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7440" y="3913200"/>
            <a:ext cx="23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66"/>
                </a:solidFill>
                <a:latin typeface="Comic Sans MS"/>
              </a:rPr>
              <a:t>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4505400"/>
            <a:ext cx="2475000" cy="649080"/>
          </a:xfrm>
          <a:prstGeom prst="rect">
            <a:avLst/>
          </a:prstGeom>
          <a:solidFill>
            <a:srgbClr val="003300"/>
          </a:solidFill>
          <a:ln w="1908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7440" y="4562640"/>
            <a:ext cx="25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66"/>
                </a:solidFill>
                <a:latin typeface="Comic Sans MS"/>
              </a:rPr>
              <a:t>Enum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00360" y="5299200"/>
            <a:ext cx="1676520" cy="650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00360" y="53560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66"/>
                </a:solidFill>
                <a:latin typeface="Comic Sans MS"/>
              </a:rPr>
              <a:t>12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5299200"/>
            <a:ext cx="2475000" cy="649080"/>
          </a:xfrm>
          <a:prstGeom prst="rect">
            <a:avLst/>
          </a:prstGeom>
          <a:solidFill>
            <a:srgbClr val="003300"/>
          </a:solidFill>
          <a:ln w="1908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17440" y="5014800"/>
            <a:ext cx="2554200" cy="1739880"/>
            <a:chOff x="217440" y="5014800"/>
            <a:chExt cx="2554200" cy="1739880"/>
          </a:xfrm>
        </p:grpSpPr>
        <p:sp>
          <p:nvSpPr>
            <p:cNvPr id="139" name=""/>
            <p:cNvSpPr/>
            <p:nvPr/>
          </p:nvSpPr>
          <p:spPr>
            <a:xfrm>
              <a:off x="217440" y="5356440"/>
              <a:ext cx="255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ffff66"/>
                  </a:solidFill>
                  <a:latin typeface="Comic Sans MS"/>
                </a:rPr>
                <a:t>Total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57080" y="5014800"/>
              <a:ext cx="8985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5400" spc="-1" strike="noStrike">
                  <a:solidFill>
                    <a:srgbClr val="ffff66"/>
                  </a:solidFill>
                  <a:latin typeface="Comic Sans MS"/>
                </a:rPr>
                <a:t>… 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286160" y="1989000"/>
            <a:ext cx="1746360" cy="3960720"/>
            <a:chOff x="4286160" y="1989000"/>
            <a:chExt cx="1746360" cy="3960720"/>
          </a:xfrm>
        </p:grpSpPr>
        <p:sp>
          <p:nvSpPr>
            <p:cNvPr id="142" name=""/>
            <p:cNvSpPr/>
            <p:nvPr/>
          </p:nvSpPr>
          <p:spPr>
            <a:xfrm>
              <a:off x="4356000" y="1989000"/>
              <a:ext cx="1676520" cy="515880"/>
            </a:xfrm>
            <a:prstGeom prst="rect">
              <a:avLst/>
            </a:prstGeom>
            <a:solidFill>
              <a:srgbClr val="003300"/>
            </a:solidFill>
            <a:ln w="1908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56000" y="205416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ffff66"/>
                  </a:solidFill>
                  <a:latin typeface="Comic Sans MS"/>
                </a:rPr>
                <a:t>ST.66 Rev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56000" y="2560680"/>
              <a:ext cx="1676520" cy="65088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56000" y="26175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66"/>
                  </a:solidFill>
                  <a:latin typeface="Comic Sans MS"/>
                </a:rPr>
                <a:t>17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56000" y="3209760"/>
              <a:ext cx="1676520" cy="650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56000" y="326700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66"/>
                  </a:solidFill>
                  <a:latin typeface="Comic Sans MS"/>
                </a:rPr>
                <a:t>82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56000" y="3857400"/>
              <a:ext cx="1676520" cy="65088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56000" y="391464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66"/>
                  </a:solidFill>
                  <a:latin typeface="Comic Sans MS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56000" y="4505400"/>
              <a:ext cx="1676520" cy="650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56000" y="456228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66"/>
                  </a:solidFill>
                  <a:latin typeface="Comic Sans MS"/>
                </a:rPr>
                <a:t>48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56000" y="5298840"/>
              <a:ext cx="1676520" cy="650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56000" y="535608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66"/>
                  </a:solidFill>
                  <a:latin typeface="Comic Sans MS"/>
                </a:rPr>
                <a:t>150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89760" y="2509560"/>
              <a:ext cx="58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IE" sz="1600" spc="-1" strike="noStrike">
                  <a:solidFill>
                    <a:srgbClr val="cc0000"/>
                  </a:solidFill>
                  <a:latin typeface="Arial"/>
                </a:rPr>
                <a:t>+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86520" y="3159000"/>
              <a:ext cx="58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IE" sz="1600" spc="-1" strike="noStrike">
                  <a:solidFill>
                    <a:srgbClr val="cc0000"/>
                  </a:solidFill>
                  <a:latin typeface="Arial"/>
                </a:rPr>
                <a:t>+9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87600" y="381312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cc0000"/>
                  </a:solidFill>
                  <a:latin typeface="Arial"/>
                </a:rPr>
                <a:t>   </a:t>
              </a:r>
              <a:r>
                <a:rPr b="1" lang="en-IE" sz="1600" spc="-1" strike="noStrike">
                  <a:solidFill>
                    <a:srgbClr val="cc0000"/>
                  </a:solidFill>
                  <a:latin typeface="Arial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86160" y="4460760"/>
              <a:ext cx="63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cc0000"/>
                  </a:solidFill>
                  <a:latin typeface="Arial"/>
                </a:rPr>
                <a:t>+11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86160" y="5252760"/>
              <a:ext cx="63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cc0000"/>
                  </a:solidFill>
                  <a:latin typeface="Arial"/>
                </a:rPr>
                <a:t>+23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082560" y="1989000"/>
            <a:ext cx="2810520" cy="3961080"/>
            <a:chOff x="6082560" y="1989000"/>
            <a:chExt cx="2810520" cy="3961080"/>
          </a:xfrm>
        </p:grpSpPr>
        <p:sp>
          <p:nvSpPr>
            <p:cNvPr id="160" name=""/>
            <p:cNvSpPr/>
            <p:nvPr/>
          </p:nvSpPr>
          <p:spPr>
            <a:xfrm>
              <a:off x="6135840" y="1989000"/>
              <a:ext cx="2757240" cy="516240"/>
            </a:xfrm>
            <a:prstGeom prst="rect">
              <a:avLst/>
            </a:prstGeom>
            <a:solidFill>
              <a:srgbClr val="003300"/>
            </a:solidFill>
            <a:ln w="1908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35840" y="2054160"/>
              <a:ext cx="26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ffff66"/>
                  </a:solidFill>
                  <a:latin typeface="Comic Sans MS"/>
                </a:rPr>
                <a:t>ST.86 Dra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35840" y="2560680"/>
              <a:ext cx="2757240" cy="65088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35840" y="2617920"/>
              <a:ext cx="26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66"/>
                  </a:solidFill>
                  <a:latin typeface="Comic Sans MS"/>
                </a:rPr>
                <a:t>12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35840" y="3209760"/>
              <a:ext cx="2757240" cy="650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35840" y="3267000"/>
              <a:ext cx="26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66"/>
                  </a:solidFill>
                  <a:latin typeface="Comic Sans MS"/>
                </a:rPr>
                <a:t>6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35840" y="3857760"/>
              <a:ext cx="2757240" cy="65088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35840" y="3914640"/>
              <a:ext cx="26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66"/>
                  </a:solidFill>
                  <a:latin typeface="Comic Sans MS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35840" y="4505400"/>
              <a:ext cx="2757240" cy="650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35840" y="4562640"/>
              <a:ext cx="26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66"/>
                  </a:solidFill>
                  <a:latin typeface="Comic Sans MS"/>
                </a:rPr>
                <a:t>37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35840" y="5299200"/>
              <a:ext cx="2757240" cy="650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35840" y="5356080"/>
              <a:ext cx="26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66"/>
                  </a:solidFill>
                  <a:latin typeface="Comic Sans MS"/>
                </a:rPr>
                <a:t>113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82560" y="2725560"/>
              <a:ext cx="117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cc0000"/>
                  </a:solidFill>
                  <a:latin typeface="Arial"/>
                  <a:ea typeface="Arial"/>
                </a:rPr>
                <a:t>~</a:t>
              </a:r>
              <a:r>
                <a:rPr b="1" lang="en-US" sz="1400" spc="-1" strike="noStrike">
                  <a:solidFill>
                    <a:srgbClr val="cc0000"/>
                  </a:solidFill>
                  <a:latin typeface="Arial"/>
                  <a:ea typeface="Arial"/>
                </a:rPr>
                <a:t> 30 (23%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89040" y="2543040"/>
              <a:ext cx="118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IE" sz="1400" spc="-1" strike="noStrike">
                  <a:solidFill>
                    <a:srgbClr val="cc0000"/>
                  </a:solidFill>
                  <a:latin typeface="Wingdings"/>
                  <a:ea typeface="Wingdings"/>
                </a:rPr>
                <a:t>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76 (60%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28640" y="3484440"/>
              <a:ext cx="122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 </a:t>
              </a:r>
              <a:r>
                <a:rPr b="1" lang="en-IE" sz="1400" spc="-1" strike="noStrike">
                  <a:solidFill>
                    <a:srgbClr val="cc0000"/>
                  </a:solidFill>
                  <a:latin typeface="Wingdings 2"/>
                  <a:ea typeface="Wingdings 2"/>
                </a:rPr>
                <a:t>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116 (19%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99840" y="3268800"/>
              <a:ext cx="128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IE" sz="1400" spc="-1" strike="noStrike">
                  <a:solidFill>
                    <a:srgbClr val="cc0000"/>
                  </a:solidFill>
                  <a:latin typeface="Wingdings"/>
                  <a:ea typeface="Wingdings"/>
                </a:rPr>
                <a:t>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504 (81%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29720" y="413244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 </a:t>
              </a:r>
              <a:r>
                <a:rPr b="1" lang="en-IE" sz="1400" spc="-1" strike="noStrike">
                  <a:solidFill>
                    <a:srgbClr val="cc0000"/>
                  </a:solidFill>
                  <a:latin typeface="Wingdings 2"/>
                  <a:ea typeface="Wingdings 2"/>
                </a:rPr>
                <a:t>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1 (8%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00200" y="3916440"/>
              <a:ext cx="118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IE" sz="1400" spc="-1" strike="noStrike">
                  <a:solidFill>
                    <a:srgbClr val="cc0000"/>
                  </a:solidFill>
                  <a:latin typeface="Wingdings"/>
                  <a:ea typeface="Wingdings"/>
                </a:rPr>
                <a:t>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11 (92%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28640" y="4780080"/>
              <a:ext cx="122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 </a:t>
              </a:r>
              <a:r>
                <a:rPr b="1" lang="en-IE" sz="1400" spc="-1" strike="noStrike">
                  <a:solidFill>
                    <a:srgbClr val="cc0000"/>
                  </a:solidFill>
                  <a:latin typeface="Wingdings 2"/>
                  <a:ea typeface="Wingdings 2"/>
                </a:rPr>
                <a:t>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131 (35%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99840" y="4564080"/>
              <a:ext cx="128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IE" sz="1400" spc="-1" strike="noStrike">
                  <a:solidFill>
                    <a:srgbClr val="cc0000"/>
                  </a:solidFill>
                  <a:latin typeface="Wingdings"/>
                  <a:ea typeface="Wingdings"/>
                </a:rPr>
                <a:t>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246 (65%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86160" y="2952720"/>
              <a:ext cx="112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 </a:t>
              </a:r>
              <a:r>
                <a:rPr b="1" lang="en-IE" sz="1400" spc="-1" strike="noStrike">
                  <a:solidFill>
                    <a:srgbClr val="cc0000"/>
                  </a:solidFill>
                  <a:latin typeface="Wingdings 2"/>
                  <a:ea typeface="Wingdings 2"/>
                </a:rPr>
                <a:t>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22 (17%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445400" y="177336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IE" sz="1600" spc="-1" strike="noStrike">
                <a:solidFill>
                  <a:srgbClr val="cc0000"/>
                </a:solidFill>
                <a:latin typeface="Wingdings"/>
                <a:ea typeface="Wingdings"/>
              </a:rPr>
              <a:t></a:t>
            </a:r>
            <a:r>
              <a:rPr b="1" lang="en-IE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IE" sz="1600" spc="-1" strike="noStrike">
                <a:solidFill>
                  <a:srgbClr val="cc0000"/>
                </a:solidFill>
                <a:latin typeface="Arial"/>
              </a:rPr>
              <a:t>Re-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38200" y="19890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~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 Ada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59800" y="2228760"/>
            <a:ext cx="84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IE" sz="1600" spc="-1" strike="noStrike">
                <a:solidFill>
                  <a:srgbClr val="cc0000"/>
                </a:solidFill>
                <a:latin typeface="Wingdings 2"/>
                <a:ea typeface="Wingdings 2"/>
              </a:rPr>
              <a:t></a:t>
            </a:r>
            <a:r>
              <a:rPr b="1" lang="en-IE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IE" sz="1600" spc="-1" strike="noStrike">
                <a:solidFill>
                  <a:srgbClr val="cc0000"/>
                </a:solidFill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22766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ffff66"/>
                </a:solidFill>
                <a:latin typeface="Arial"/>
              </a:rPr>
              <a:t>TM-XML 1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44640"/>
            <a:ext cx="3744720" cy="3500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547640" y="907920"/>
            <a:ext cx="7272360" cy="576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92360" y="932040"/>
            <a:ext cx="6946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 &amp;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971640" y="3627360"/>
            <a:ext cx="4038480" cy="2681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4233960" y="1700280"/>
            <a:ext cx="4586040" cy="39574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116000" y="4149720"/>
            <a:ext cx="2016000" cy="6476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4221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19:21:40Z</dcterms:created>
  <dc:creator>Alexandre TRAN</dc:creator>
  <dc:description/>
  <dc:language>en-US</dc:language>
  <cp:lastModifiedBy>Alexandre TRAN</cp:lastModifiedBy>
  <dcterms:modified xsi:type="dcterms:W3CDTF">2007-10-23T05:15:55Z</dcterms:modified>
  <cp:revision>44</cp:revision>
  <dc:subject/>
  <dc:title>Slide 1</dc:title>
</cp:coreProperties>
</file>